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838-D139-44CA-A84C-51D76A8E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05D-550B-419B-BC18-BE5D44FB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7FF-CAD5-4764-97F2-9E35A4C4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4F1-6E0D-41B0-ADF6-05386628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C2B-21A8-47CE-823F-66E50C88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A97-9EF2-49A6-B2E0-3E707D5F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B2C-E5C5-43F1-89D7-A65711D5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B5F-A9E7-4DE4-9354-646BDC06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B89-BD13-4623-91E5-EF0DBED8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D7B-86F6-4870-A30A-5628A7F0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72F-AB53-443A-8896-BDBF1BE9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1F7-373A-4947-B73D-228F0F27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2EE7-53B3-4A52-B15B-2E03206528D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0:04Z</dcterms:modified>
  <cp:revision>131</cp:revision>
  <dc:subject/>
  <dc:title>Lexical Analysis</dc:title>
</cp:coreProperties>
</file>